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64523-E1B6-4E54-8DD0-1C0B8A863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146240" y="685800"/>
            <a:ext cx="45702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PlaceHolder 1"/>
          <p:cNvSpPr>
            <a:spLocks noGrp="1"/>
          </p:cNvSpPr>
          <p:nvPr>
            <p:ph type="body"/>
          </p:nvPr>
        </p:nvSpPr>
        <p:spPr>
          <a:xfrm>
            <a:off x="685800" y="4343400"/>
            <a:ext cx="5487840" cy="4116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31F511-A238-49D8-B84C-9482473423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66739A-1B29-4CB1-A537-523A54A717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419D78-BB21-4FCC-838D-2B090088A5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638BB0-4695-476F-8AFF-695A82E039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4D2579-350D-4E27-8289-E495B4202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5F469-1FE0-4E41-8385-97C45BF7B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03397-07C6-4019-A36C-980C3A5E9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32C55-B35D-4EEF-9B19-C2B9AE436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C6763-88C3-4AAE-B035-2CF6D9124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D3F8A-8769-4912-84E0-BA2AB1555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9D7D9-99EF-4A54-BE0F-DECAD99DE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2D2978-1227-43B3-8E58-154FA0025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BCF5E-C18A-4904-B2F6-7B82C2888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F40B4-93A8-4D9F-BEA5-03A227A90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B9F15-6C5F-484F-A0EB-460E3C6E4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4FB810-C786-4BDB-8BCC-574A6CAC56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580556-8D41-4503-8EA7-566932B4EA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F2B36C-9578-469F-AF97-6DC99489A5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FD610B-124A-4CA9-8228-A772E4CF11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B479C0-F3F7-40BC-AFA3-FC18FAD2AF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1E953D-B3E7-4006-AF72-922304BC2F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D47A74-441E-4291-98B6-B6C9E3DB20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793DED-8F6F-40E3-A13C-5EA3B91F3F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85C365-D125-43E2-A017-B4F78F6B7C0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6020A-062E-43B4-A3D0-94D3EE8619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D7042-B183-49CF-B350-9E9EC7A485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4</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Exercises for Part 1</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Exercises</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dependencies between any of the security concepts that we covered? For example, is authentication required for authorization? Why or why no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if a client connects to </a:t>
            </a:r>
            <a:r>
              <a:rPr b="0" lang="en-US" sz="2800" spc="-1" strike="noStrike">
                <a:solidFill>
                  <a:srgbClr val="000000"/>
                </a:solidFill>
                <a:latin typeface="Courier New"/>
              </a:rPr>
              <a:t>SimpleWebServer</a:t>
            </a:r>
            <a:r>
              <a:rPr b="0" lang="en-US" sz="2800" spc="-1" strike="noStrike">
                <a:solidFill>
                  <a:srgbClr val="000000"/>
                </a:solidFill>
                <a:latin typeface="Arial"/>
              </a:rPr>
              <a:t>, but never sends any data and never disconnects? What type of an attack would such a client be able to condu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ing Problem (1)</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supports a mechanism that allows users to upload files in addition to retrieving them through a </a:t>
            </a:r>
            <a:r>
              <a:rPr b="0" lang="en-US" sz="2800" spc="-1" strike="noStrike">
                <a:solidFill>
                  <a:srgbClr val="000000"/>
                </a:solidFill>
                <a:latin typeface="Courier New"/>
              </a:rPr>
              <a:t>PUT</a:t>
            </a:r>
            <a:r>
              <a:rPr b="0" lang="en-US" sz="2800" spc="-1" strike="noStrike">
                <a:solidFill>
                  <a:srgbClr val="000000"/>
                </a:solidFill>
                <a:latin typeface="Arial"/>
              </a:rPr>
              <a:t> command.</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hreats would you need to consider if </a:t>
            </a:r>
            <a:r>
              <a:rPr b="0" lang="en-US" sz="2400" spc="-1" strike="noStrike">
                <a:solidFill>
                  <a:srgbClr val="000000"/>
                </a:solidFill>
                <a:latin typeface="Courier New"/>
              </a:rPr>
              <a:t>SimpleWebServer</a:t>
            </a:r>
            <a:r>
              <a:rPr b="0" lang="en-US" sz="2400" spc="-1" strike="noStrike">
                <a:solidFill>
                  <a:srgbClr val="000000"/>
                </a:solidFill>
                <a:latin typeface="Arial"/>
              </a:rPr>
              <a:t> also had functionality that could be used to upload fil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of the specific threats you just listed, what types of security mechanisms might you put in place to mitigate the thre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ing Problem (2)</a:t>
            </a:r>
            <a:endParaRPr b="0" lang="en-US" sz="4400" spc="-1" strike="noStrike">
              <a:solidFill>
                <a:srgbClr val="000000"/>
              </a:solidFill>
              <a:latin typeface="Arial"/>
            </a:endParaRPr>
          </a:p>
        </p:txBody>
      </p:sp>
      <p:sp>
        <p:nvSpPr>
          <p:cNvPr id="120" name="PlaceHolder 2"/>
          <p:cNvSpPr>
            <a:spLocks noGrp="1"/>
          </p:cNvSpPr>
          <p:nvPr>
            <p:ph/>
          </p:nvPr>
        </p:nvSpPr>
        <p:spPr>
          <a:xfrm>
            <a:off x="5105520" y="2133360"/>
            <a:ext cx="4038480" cy="32763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the </a:t>
            </a:r>
            <a:r>
              <a:rPr b="0" lang="en-US" sz="2800" spc="-1" strike="noStrike">
                <a:solidFill>
                  <a:srgbClr val="000000"/>
                </a:solidFill>
                <a:latin typeface="Courier New"/>
              </a:rPr>
              <a:t>processRequest()</a:t>
            </a:r>
            <a:r>
              <a:rPr b="0" lang="en-US" sz="2800" spc="-1" strike="noStrike">
                <a:solidFill>
                  <a:srgbClr val="000000"/>
                </a:solidFill>
                <a:latin typeface="Arial"/>
              </a:rPr>
              <a:t> method in SWS to use this file storage and logging code.</a:t>
            </a:r>
            <a:endParaRPr b="0" lang="en-US" sz="2800" spc="-1" strike="noStrike">
              <a:solidFill>
                <a:srgbClr val="000000"/>
              </a:solidFill>
              <a:latin typeface="Arial"/>
            </a:endParaRPr>
          </a:p>
        </p:txBody>
      </p:sp>
      <p:sp>
        <p:nvSpPr>
          <p:cNvPr id="121" name=""/>
          <p:cNvSpPr/>
          <p:nvPr/>
        </p:nvSpPr>
        <p:spPr>
          <a:xfrm>
            <a:off x="228600" y="1604880"/>
            <a:ext cx="739152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void storeFile (BufferedReader br, OutputStreamWriter os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pathname) throws Excep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Writer fw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r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w = new FileWriter(path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s = br.read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s != nul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w.writ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 = br.read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w.cl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sw.write("HTTP/1.0 201 Crea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catch(Exception 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sw.write("HTTP/1.0 500 Internal Server Err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void logEntry(String filename,String recor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Writer fw = new FileWriter (filename,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w.write(getTimestamp()+ " " + 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w.cl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String getTimest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Date()).toSt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ing Problem (3)</a:t>
            </a:r>
            <a:endParaRPr b="0" lang="en-US" sz="4400" spc="-1" strike="noStrike">
              <a:solidFill>
                <a:srgbClr val="000000"/>
              </a:solidFill>
              <a:latin typeface="Arial"/>
            </a:endParaRPr>
          </a:p>
        </p:txBody>
      </p:sp>
      <p:sp>
        <p:nvSpPr>
          <p:cNvPr id="123" name="PlaceHolder 2"/>
          <p:cNvSpPr>
            <a:spLocks noGrp="1"/>
          </p:cNvSpPr>
          <p:nvPr>
            <p:ph/>
          </p:nvPr>
        </p:nvSpPr>
        <p:spPr>
          <a:xfrm>
            <a:off x="457200" y="175212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your web server and mount an attack that defaces the </a:t>
            </a:r>
            <a:r>
              <a:rPr b="0" lang="en-US" sz="2800" spc="-1" strike="noStrike">
                <a:solidFill>
                  <a:srgbClr val="000000"/>
                </a:solidFill>
                <a:latin typeface="Courier New"/>
              </a:rPr>
              <a:t>index.html</a:t>
            </a:r>
            <a:r>
              <a:rPr b="0" lang="en-US" sz="2800" spc="-1" strike="noStrike">
                <a:solidFill>
                  <a:srgbClr val="000000"/>
                </a:solidFill>
                <a:latin typeface="Arial"/>
              </a:rPr>
              <a:t> home pag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at the web server is run as root on a Linux workstation. Mount an attack against </a:t>
            </a:r>
            <a:r>
              <a:rPr b="0" lang="en-US" sz="2800" spc="-1" strike="noStrike">
                <a:solidFill>
                  <a:srgbClr val="000000"/>
                </a:solidFill>
                <a:latin typeface="Courier New"/>
              </a:rPr>
              <a:t>SimpleWebServer</a:t>
            </a:r>
            <a:r>
              <a:rPr b="0" lang="en-US" sz="2800" spc="-1" strike="noStrike">
                <a:solidFill>
                  <a:srgbClr val="000000"/>
                </a:solidFill>
                <a:latin typeface="Arial"/>
              </a:rPr>
              <a:t> in which you take ownership of the machine that it is running on. By taking ownership, we mean that you should be able to gain access to a root account, giving you unrestricted access to all the resources on the system. Be sure to cover your tracks so that the web log does not indicate that you mounted an att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rker Student</cp:lastModifiedBy>
  <dcterms:modified xsi:type="dcterms:W3CDTF">2008-06-20T22:18:17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